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6FB-3487-43EB-BAD8-3F5FAE9B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D14-D02F-46A9-81E0-0FC3CC4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987-1112-49F9-AE6E-905539B8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C6B-430B-456E-8B5E-BB40F4FA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2B5-D762-48B3-9488-8D6D5D61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A584-27AE-4EA5-9B7D-2A79F60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A64B-F667-4C2B-A71F-E6C3D77A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F720-1623-4871-A442-8C463CF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84D-4EC8-466D-AA60-F7517C22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68A-FB2F-46DD-B3A8-C74E9E4B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2A06-2F9A-43B9-A56F-BAF6447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43D-812B-4939-B431-00755682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F04D-C187-47FE-90E6-6C15457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130D-9D59-4C6B-AA15-EAE20B6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2D68-99DC-4DD2-AD7A-BFA0652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086-4A81-471A-80E5-A7470FF8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6D3B-3D64-4FB6-BD4D-1DFC2CE9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125-397A-41B2-B2E1-CA15A2D1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C13-B283-4B27-85A1-A89284D4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C87-6B08-4C4A-827D-63ED23C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D4E-DB16-4A4E-A6B7-5A96267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211-34E0-459C-A5FD-BCB36B7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90C-8D21-45CA-A9F4-716BD9D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E98-551E-49C5-838E-D59B0E6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B60E-F137-4B9A-8389-EF6839B18E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8377-2566-4B2E-929B-B8BBE325DE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Комбинированные задачи. 11 класс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ru-RU" sz="4600" spc="-1" strike="noStrike">
                <a:solidFill>
                  <a:srgbClr val="000000"/>
                </a:solidFill>
                <a:latin typeface="Garamond"/>
              </a:rPr>
              <a:t>(159). При электролизе расплава хлорида кальция на аноде был получен хлор объемом 112 л (н.у.), а на катоде – кальций массой 180 г. Считая, что массовая доля выхода хлора равна 100%, определите массовую долю выхода кальция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2 (169). При электролизе водного раствора хлорида калия получен гидроксид калия массой 22,4 г. Определите массу воды, которая образуется при сгорании водорода, выделившегося в результате электролиза.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3 (179). Железная пластинка имеет толщину 1 мм. Определите площадь куска этой пластины, в котором будет заключено 0,1 моль железа. Плотность металла равна 7,87 г/см</a:t>
            </a:r>
            <a:r>
              <a:rPr b="0" lang="ru-RU" sz="48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4 (181). При действии водного раствора аммиака на раствор, содержащий один из хлоридов железа массой 3,81 г, получили гидроксид железа, масса которого составила 2,7 г. Определите формулу хлорида железа, который содержался в растворе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54:34Z</dcterms:created>
  <dc:creator>Wadimus</dc:creator>
  <dc:description/>
  <dc:language>en-US</dc:language>
  <cp:lastModifiedBy>кабинет химии</cp:lastModifiedBy>
  <dcterms:modified xsi:type="dcterms:W3CDTF">2015-04-10T04:29:15Z</dcterms:modified>
  <cp:revision>4</cp:revision>
  <dc:subject/>
  <dc:title>1. При электролизе расплава хлорида кальция на аноде был получен хлор объемом 112 л (н.у.), а на катоде – кальций массой 180 г. Считая, что массовая доля выхода равна 100%, определите массовую долю выхода кальци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